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CC3B-ECCE-4E40-8E03-CE87676371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F1AB-8B33-43DB-93C7-F49D67CCB2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8020-1F91-4E0A-A9BD-F9BDB56EE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DB3A-7BBF-44EE-88B8-689361C1A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F738-5524-4874-8D56-BE1C92D7F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6CD5-CE1E-4721-BEA7-8B5FD336E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E0CA-C2F9-4872-B0C6-08A8ECE18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AD0F-5791-4ACF-BA78-F256BAF47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AB8-F2EE-4020-8AE7-0CA338889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10BE-115A-42F3-8429-8E5D92C67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8672-63D9-435B-A4DB-E4C508FC8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23D6-8EC3-4972-A0AB-99F403E4A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17A3-DAD4-4880-932A-79664A943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B9D3-E66C-4FF2-A981-1CFDE02E0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43600"/>
            <a:ext cx="91584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1040" y="6073920"/>
            <a:ext cx="6769080" cy="441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MARCO GLOBAL DE LA GESTIÓN DE RR.HH. BASADA EN COMPETENCI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80"/>
                </a:solidFill>
                <a:latin typeface="Arial"/>
              </a:rPr>
              <a:t>Uso Docente en MBA DII-U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35C-7C5F-4C1E-9316-41BFF4EE5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Marco Global de la              Gestión de Recursos Humanos                 basada en Compet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57200" y="1676520"/>
            <a:ext cx="7695720" cy="3047400"/>
            <a:chOff x="457200" y="1676520"/>
            <a:chExt cx="7695720" cy="3047400"/>
          </a:xfrm>
        </p:grpSpPr>
        <p:sp>
          <p:nvSpPr>
            <p:cNvPr id="140" name=""/>
            <p:cNvSpPr/>
            <p:nvPr/>
          </p:nvSpPr>
          <p:spPr>
            <a:xfrm>
              <a:off x="1338840" y="1676520"/>
              <a:ext cx="6814080" cy="304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entury Gothic"/>
                </a:rPr>
                <a:t>La Competencia Laboral es la capacidad manifiesta por una persona para realizar un trabajo productivo aplicando recursos, de manera que cumpla con los estándares de desempeño exigidos en los criterios y condiciones de ejecución del producto, y satisfaga las necesidades y exigencias del cli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2469240"/>
              <a:ext cx="5612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90720" y="1371600"/>
            <a:ext cx="38088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54920" y="2725560"/>
            <a:ext cx="274680" cy="19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3320" y="2568600"/>
            <a:ext cx="704880" cy="211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480" y="341784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SULTADO</a:t>
            </a: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:    </a:t>
            </a:r>
            <a:r>
              <a:rPr b="0" lang="es-CL" sz="1400" spc="-1" strike="noStrike">
                <a:solidFill>
                  <a:srgbClr val="000000"/>
                </a:solidFill>
                <a:latin typeface="Century Gothic"/>
              </a:rPr>
              <a:t>Servicio,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1240" y="3592440"/>
            <a:ext cx="368640" cy="206280"/>
          </a:xfrm>
          <a:prstGeom prst="rightArrow">
            <a:avLst>
              <a:gd name="adj1" fmla="val 50000"/>
              <a:gd name="adj2" fmla="val 44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1520" y="3516480"/>
            <a:ext cx="16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PRA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9240" y="4255920"/>
            <a:ext cx="225576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8892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Cal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200" y="3232080"/>
            <a:ext cx="166212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54120" y="2732040"/>
            <a:ext cx="1822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Atributos Pers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88800">
            <a:off x="3092040" y="3188880"/>
            <a:ext cx="547560" cy="128520"/>
          </a:xfrm>
          <a:prstGeom prst="rightArrow">
            <a:avLst>
              <a:gd name="adj1" fmla="val 50000"/>
              <a:gd name="adj2" fmla="val 1065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55000">
            <a:off x="3066840" y="4179600"/>
            <a:ext cx="547560" cy="106200"/>
          </a:xfrm>
          <a:prstGeom prst="rightArrow">
            <a:avLst>
              <a:gd name="adj1" fmla="val 50000"/>
              <a:gd name="adj2" fmla="val 128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5640" y="1676520"/>
            <a:ext cx="315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FACTORE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73200" y="5530680"/>
            <a:ext cx="71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i="1" lang="es-ES_tradnl" sz="1400" spc="-1" strike="noStrike">
                <a:solidFill>
                  <a:srgbClr val="000000"/>
                </a:solidFill>
                <a:latin typeface="Century Gothic"/>
              </a:rPr>
              <a:t>Siempre hay un cliente quien justifica la existencia de una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2438280"/>
            <a:ext cx="1630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RECUR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ementos del C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3668760"/>
            <a:ext cx="380880" cy="206280"/>
          </a:xfrm>
          <a:prstGeom prst="rightArrow">
            <a:avLst>
              <a:gd name="adj1" fmla="val 50000"/>
              <a:gd name="adj2" fmla="val 46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78000" y="3646440"/>
            <a:ext cx="520920" cy="152280"/>
          </a:xfrm>
          <a:prstGeom prst="rightArrow">
            <a:avLst>
              <a:gd name="adj1" fmla="val 50000"/>
              <a:gd name="adj2" fmla="val 855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68800">
            <a:off x="4349160" y="151920"/>
            <a:ext cx="609480" cy="3962520"/>
          </a:xfrm>
          <a:custGeom>
            <a:avLst/>
            <a:gdLst>
              <a:gd name="textAreaLeft" fmla="*/ 0 w 609480"/>
              <a:gd name="textAreaRight" fmla="*/ 219960 w 6094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038480"/>
            <a:ext cx="1828800" cy="6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Atributos de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Century Gothic"/>
              </a:rPr>
              <a:t>Criterios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52480" y="1447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Saber actuar y Reaccionar en forma responsable y validada en un contexto profesional particular, es dec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124080"/>
            <a:ext cx="1447560" cy="1739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aber Movilizar Integrar y Transfe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8720" y="3124080"/>
            <a:ext cx="2089080" cy="1600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Recurso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(Conocimientos, Habilidades, y Actitud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03840" y="3135240"/>
            <a:ext cx="2754360" cy="297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ara Resolver problemas en un contexto laboral particular, cumpliendo estándares o criteri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094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560" y="609480"/>
            <a:ext cx="53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90720" y="1371600"/>
            <a:ext cx="533160" cy="38088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457200" cy="12189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5711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28800" y="1295280"/>
            <a:ext cx="60958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Empezar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Procesos críticos para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Cargos muy sensibles para el logro de los objetivos en el nuevo período de gest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Áreas centrales en la cadena de val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Unidades en las cuales existen condiciones para una óptima implementación del modelo, a modo de pil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do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304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c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identificar las 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ueden utilizarse diversas técnic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mbinadas o no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71600" y="2209680"/>
            <a:ext cx="6857640" cy="1981080"/>
            <a:chOff x="1371600" y="2209680"/>
            <a:chExt cx="6857640" cy="1981080"/>
          </a:xfrm>
        </p:grpSpPr>
        <p:sp>
          <p:nvSpPr>
            <p:cNvPr id="193" name=""/>
            <p:cNvSpPr/>
            <p:nvPr/>
          </p:nvSpPr>
          <p:spPr>
            <a:xfrm>
              <a:off x="137160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stra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504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Panel de Exper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00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bserv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ntrev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0480" y="3266280"/>
              <a:ext cx="2099160" cy="924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Be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n</a:t>
              </a: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chmark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Estánd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30080" y="2209680"/>
              <a:ext cx="2099160" cy="924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cc0000"/>
                  </a:solidFill>
                  <a:latin typeface="Arial"/>
                </a:rPr>
                <a:t>Funcional</a:t>
              </a:r>
              <a:r>
                <a:rPr b="0" lang="es-CL" sz="2000" spc="-1" strike="noStrike">
                  <a:solidFill>
                    <a:srgbClr val="cc0000"/>
                  </a:solidFill>
                  <a:latin typeface="Arial"/>
                </a:rPr>
                <a:t> y de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57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90720" y="609480"/>
            <a:ext cx="78483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99cc"/>
                </a:solidFill>
                <a:latin typeface="Impact"/>
              </a:rPr>
              <a:t>nálisis Funcional, para Identificar compet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09480"/>
            <a:ext cx="57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371600"/>
            <a:ext cx="30456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95280" y="131760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entury Gothic"/>
              </a:rPr>
              <a:t>Metodologí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66680" y="2438280"/>
            <a:ext cx="7086600" cy="1905120"/>
            <a:chOff x="1066680" y="2438280"/>
            <a:chExt cx="7086600" cy="1905120"/>
          </a:xfrm>
        </p:grpSpPr>
        <p:sp>
          <p:nvSpPr>
            <p:cNvPr id="211" name=""/>
            <p:cNvSpPr/>
            <p:nvPr/>
          </p:nvSpPr>
          <p:spPr>
            <a:xfrm>
              <a:off x="1066680" y="2438280"/>
              <a:ext cx="7086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3276720"/>
              <a:ext cx="12142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C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276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 COMPE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276720"/>
              <a:ext cx="14652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UNCI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 Narrow"/>
                </a:rPr>
                <a:t>ÓN 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3276720"/>
              <a:ext cx="1219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7160" y="263844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Qué hay que hacer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6520" y="37814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320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19920" y="33526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2870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24080" y="397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1219320"/>
            <a:ext cx="72388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Recomendaciones para su identificació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ertinentes y Vig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ponden al futuro deseado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raducen misi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, objetivos, valores, cultura)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ver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so frecu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atisface una necesidad funcional (es demand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alanceadas.  (Cuadro de Mando Integ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906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Competencias G</a:t>
            </a:r>
            <a:r>
              <a:rPr b="0" lang="es-CL" sz="3200" spc="-1" strike="noStrike">
                <a:solidFill>
                  <a:srgbClr val="0099cc"/>
                </a:solidFill>
                <a:latin typeface="Impact"/>
              </a:rPr>
              <a:t>ené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isten muchos formatos para describir las normas de competencias, ¿pero cuáles son los componentes indispensab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3040" y="2133720"/>
            <a:ext cx="495144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mbre de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18288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ó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390760"/>
            <a:ext cx="6781680" cy="59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022560"/>
            <a:ext cx="67820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iterio de desempeño / Indicador condu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3040" y="3352680"/>
            <a:ext cx="67820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6000" y="4191120"/>
            <a:ext cx="6767280" cy="1066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1 Criterio de desempeñ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2 Criterio de desempeñ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3 Criterio de desempeñ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.4 Criterio de desempeñ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1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tros componentes que se utilizan so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227340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ampo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Situaciones, condicione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ha de re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866960"/>
            <a:ext cx="3429000" cy="34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78136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servación, experiencia, productos de trabajo, pruebas, testimon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27672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ista de Conocimientos y condu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378468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evalu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Métodos, procedimientos, herrami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80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uía de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ursos, lecturas, ejerc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775040"/>
            <a:ext cx="68580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ccio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finiciones de concepto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1430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6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Impact"/>
              </a:rPr>
              <a:t>2 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21520" y="53352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18960" y="1219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pecto de los componentes que utilizaremos en la descripción de competencias?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Considerem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n desafiantes, pero no amenazan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dialogu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, sea homologabl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con las best pract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interpre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nuestra cultura, que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o conduzcan a dobles interpretaciones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facilite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la posterior implementación de otras aplicaciones de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pueda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ser </a:t>
            </a: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objeto de actualización contínua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no sea burocr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-259920">
              <a:lnSpc>
                <a:spcPct val="19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Century Gothic"/>
              </a:rPr>
              <a:t>Que sea un instrumento, no un fin en sí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c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ómo </a:t>
            </a:r>
            <a:r>
              <a:rPr b="1" lang="es-CL" sz="3000" spc="-1" strike="noStrike">
                <a:solidFill>
                  <a:srgbClr val="0099cc"/>
                </a:solidFill>
                <a:latin typeface="Impact"/>
              </a:rPr>
              <a:t>definir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?    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	</a:t>
            </a:r>
            <a:r>
              <a:rPr b="1" lang="en-US" sz="2200" spc="-1" strike="noStrike">
                <a:solidFill>
                  <a:srgbClr val="0099cc"/>
                </a:solidFill>
                <a:latin typeface="Impact"/>
              </a:rPr>
              <a:t>3 de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1143000"/>
            <a:ext cx="8204040" cy="127080"/>
            <a:chOff x="228600" y="1143000"/>
            <a:chExt cx="8204040" cy="1270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74680" y="114300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048320" y="45720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492200"/>
            <a:ext cx="678168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el rol de las actitudes (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querer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Las competencias permiten relacionar las prácticas de trabajo con la estrategia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Conlleva uniformar las prácticas de RR.HH. y conduce a una Gestión integrada de los RR.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oce diferentes accesos al k-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28800" y="1371600"/>
            <a:ext cx="60958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Empezar por las competencias de 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un cargo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más “sensibles” para asegurar el objetivo institucional o del</a:t>
            </a:r>
            <a:r>
              <a:rPr b="1" lang="es-CL" sz="1600" spc="-1" strike="noStrike">
                <a:solidFill>
                  <a:srgbClr val="000000"/>
                </a:solidFill>
                <a:latin typeface="Century Gothic"/>
              </a:rPr>
              <a:t> área analizada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, aplicando el siguiente ord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scribiendo el cargo en términos de ejes de competencias y sus recursos asoci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finiendo las prácticas asociadas y sus respectivos criterios y evidencias de desempe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70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Identificando estándares o indicadores para cada prác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55080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mpetencias en un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8600" y="1168560"/>
            <a:ext cx="8204040" cy="126720"/>
            <a:chOff x="228600" y="1168560"/>
            <a:chExt cx="8204040" cy="126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28600" y="11685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74680" y="11685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90720" y="1295280"/>
            <a:ext cx="761760" cy="38124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8480" y="4748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95280" y="1371600"/>
            <a:ext cx="7188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1. Misión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2. Resultados esperados en servicios y/o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3. Factores de Camb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4. Principales competenc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Expresadas como “ser capaz de + verbo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Ubicadas sobre ej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Con criterios, evidencias y campos de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5. Los principales “Recurs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perso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* Habilidades (ser capaz de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- Recursos del entorno (Banco de Datos, Sistemas de so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6240" y="68580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l contenido de una descripción de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Factores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1711440"/>
            <a:ext cx="7086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riables de contexto que determinan que la competencia se modifique e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711440"/>
            <a:ext cx="7086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junto de tareas relacion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Pr</a:t>
            </a:r>
            <a:r>
              <a:rPr b="0" lang="es-CL" sz="3600" spc="-1" strike="noStrike">
                <a:solidFill>
                  <a:srgbClr val="0099cc"/>
                </a:solidFill>
                <a:latin typeface="Impact"/>
              </a:rPr>
              <a:t>á</a:t>
            </a: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ticas de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5280" y="1371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8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escripciones que especifican qué actividades realizar y cómo ejecutarlas para alcanzar una actuación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371600"/>
            <a:ext cx="716292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Orientan hacia el desempeño considerado como competent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Deben considerarse contribuyentes y significativos (críticos) para alcanzar los resultados previstos y hacer referencia a la calidad que deben tener dichos result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Expresan el qué se espera del desempeño y el cómo se espera que sea el resultado o 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riterios de Desemp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187280" y="1371600"/>
            <a:ext cx="71186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Corresponde al contexto de trabajo específico en el cual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e pondrá a prueba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domin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competencia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Campo de 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22200" y="733320"/>
            <a:ext cx="7616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una Práctica de Trabajo y sus Crite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1295280"/>
            <a:ext cx="8204040" cy="127080"/>
            <a:chOff x="228600" y="1295280"/>
            <a:chExt cx="8204040" cy="127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74680" y="129528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19320" y="1295280"/>
            <a:ext cx="64008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Ser capaz de enfrentar recla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Objetivando los recl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Evitando reacciones negativas y reflejas ante la ag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Gestionando la solución a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Comunicando al cliente la gestión realizada y efectos esperados de ella (condiciones, plaz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 indent="-17784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6667560"/>
                <a:tab algn="l" pos="682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Verificando que el cliente comprenda la respuesta y se manifieste satisfecho con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8480" y="687240"/>
            <a:ext cx="496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48600" y="946476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02120" y="9464760"/>
            <a:ext cx="51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5440" y="9575640"/>
            <a:ext cx="1828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32760" y="94647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0" y="9644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14320" y="9634680"/>
            <a:ext cx="498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Hooghiemstra, T.; Gestión Integrada de Recursos Humanos; 1996;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1120" y="967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186920" y="1218960"/>
            <a:ext cx="7270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Se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tinguen tres tipos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 conoc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ceso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aquellas elementos que indican la calidad en la ejecución de una tarea y que son factibles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observación y análisis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del proceso de trabaj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entury Gothic"/>
              </a:rPr>
              <a:t>Las evidencias del producto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corresponden a los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resultados o productos identificables y tangibles, que pueden usarse como referentes para demostrar que </a:t>
            </a:r>
            <a:r>
              <a:rPr b="1" lang="es-ES_tradnl" sz="1600" spc="-1" strike="noStrike">
                <a:solidFill>
                  <a:srgbClr val="000000"/>
                </a:solidFill>
                <a:latin typeface="Century Gothic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 actividad fue realiza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072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33520"/>
            <a:ext cx="738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99cc"/>
                </a:solidFill>
                <a:latin typeface="Impact"/>
              </a:rPr>
              <a:t>Evid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600" y="1219320"/>
            <a:ext cx="8204040" cy="126720"/>
            <a:chOff x="228600" y="1219320"/>
            <a:chExt cx="8204040" cy="12672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228600" y="12193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174680" y="12193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26200" y="534348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447560" y="1939680"/>
            <a:ext cx="7445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Cumple con los aspectos formales (plazos, formato, medios de distribución, lenguaje, legal del paí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el entendimiento de la empresa acerca del negocio del cliente, el problema y su contexto y los beneficios esperados por el cliente. Expone claramente el valor (beneficio) para el cliente, los atributos diferenciadores mediante la exposición de valor agregado y ún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Expone las alternativas y justifica adecuadamente la alternativa propuesta, indicando claramente el detalle de costos involucrados en la propuesta y los beneficios que el cliente obtend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990720"/>
            <a:ext cx="92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b13348"/>
                </a:solidFill>
                <a:latin typeface="Century Gothic"/>
              </a:rPr>
              <a:t>Practica de Trabajo</a:t>
            </a:r>
            <a:r>
              <a:rPr b="1" lang="en-US" sz="20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Century Gothic"/>
              </a:rPr>
              <a:t>Elaborar propuesta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13348"/>
                </a:solidFill>
                <a:latin typeface="Century Gothic"/>
              </a:rPr>
              <a:t>Criterio</a:t>
            </a:r>
            <a:r>
              <a:rPr b="1" lang="en-US" sz="1600" spc="-1" strike="noStrike">
                <a:solidFill>
                  <a:srgbClr val="b13348"/>
                </a:solidFill>
                <a:latin typeface="Century Gothic"/>
              </a:rPr>
              <a:t>: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es-CL" sz="1600" spc="-1" strike="noStrike">
                <a:solidFill>
                  <a:srgbClr val="000099"/>
                </a:solidFill>
                <a:latin typeface="Century Gothic"/>
              </a:rPr>
              <a:t>Incorporando contenidos necesarios para la propuesta</a:t>
            </a:r>
            <a:r>
              <a:rPr b="0" lang="es-CL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57200"/>
            <a:ext cx="7959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jemplo de Evidencias de Desempeño por Crit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28600" y="1092240"/>
            <a:ext cx="8204040" cy="127080"/>
            <a:chOff x="228600" y="1092240"/>
            <a:chExt cx="8204040" cy="12708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28600" y="109224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174680" y="109224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00200" y="45720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43000" y="1454040"/>
            <a:ext cx="72388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efectivo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estionar la capacidad para producir, saber qué produce el desempeño superior y potenci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nfocar en las competencias  requeridas, antes que en tareas o resultados esperados, es asumir una enfoque dinámico, que facilita el diseño proactivo y flexible del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79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36600" y="30492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roceso de evaluación y cer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428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10666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dentificar la(s) norma(s)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mpetencia en las que se des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btener el cert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90512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colectar las evidenci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empe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ñ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 y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7432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arar las evi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rente a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 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1981080"/>
            <a:ext cx="1904760" cy="144792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gistrar en 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informaci</a:t>
            </a: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5000" y="388476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Sí.  E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i="1" lang="es-CL" sz="1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3333cc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581280"/>
            <a:ext cx="1905120" cy="1143000"/>
          </a:xfrm>
          <a:prstGeom prst="flowChartDecis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¿alcanza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erid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23040" y="3683160"/>
            <a:ext cx="1066680" cy="9144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Narrow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952880"/>
            <a:ext cx="3429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stablecer las necesidades de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y desarrollo para alcanzar la 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638680"/>
            <a:ext cx="3429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Narrow"/>
              </a:rPr>
              <a:t>efectuar las acciones de formación y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6483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N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o.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A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ún no es</a:t>
            </a:r>
            <a:r>
              <a:rPr b="1" i="1" lang="es-CL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i="1" lang="es-ES" sz="1400" spc="-1" strike="noStrike">
                <a:solidFill>
                  <a:srgbClr val="ff3300"/>
                </a:solidFill>
                <a:latin typeface="Arial Narrow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1676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25146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33526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724280"/>
            <a:ext cx="14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541008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140360"/>
            <a:ext cx="1943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791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7162920" y="3441600"/>
            <a:ext cx="144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5280" y="41403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2235240"/>
            <a:ext cx="1440" cy="355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5280" y="411480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24784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5791320"/>
            <a:ext cx="571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600" y="939960"/>
            <a:ext cx="8204040" cy="126720"/>
            <a:chOff x="228600" y="939960"/>
            <a:chExt cx="8204040" cy="1267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228600" y="93996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74680" y="93996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905120"/>
            <a:ext cx="32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mbi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rabajo m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ás 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omplejo y Ale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640" y="64296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343400" y="2057400"/>
            <a:ext cx="838080" cy="3124080"/>
          </a:xfrm>
          <a:custGeom>
            <a:avLst/>
            <a:gdLst>
              <a:gd name="textAreaLeft" fmla="*/ 0 w 838080"/>
              <a:gd name="textAreaRight" fmla="*/ 302760 w 8380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828800"/>
            <a:ext cx="3276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289080">
              <a:lnSpc>
                <a:spcPct val="140000"/>
              </a:lnSpc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Competencias pueden convertirse e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ventajas competitivas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as organizaciones y en factor d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entury Gothic"/>
              </a:rPr>
              <a:t>empleabilidad</a:t>
            </a:r>
            <a:r>
              <a:rPr b="1" lang="en-US" sz="2000" spc="-1" strike="noStrike">
                <a:solidFill>
                  <a:srgbClr val="000099"/>
                </a:solidFill>
                <a:latin typeface="Century Gothic"/>
              </a:rPr>
              <a:t> para los trabajadore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152280"/>
            <a:ext cx="738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Por qué Modelos de Compe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990720"/>
            <a:ext cx="8204040" cy="126720"/>
            <a:chOff x="228600" y="990720"/>
            <a:chExt cx="8204040" cy="126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20404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174680" y="9907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838080"/>
            <a:ext cx="7848000" cy="5029200"/>
            <a:chOff x="762120" y="838080"/>
            <a:chExt cx="7848000" cy="5029200"/>
          </a:xfrm>
        </p:grpSpPr>
        <p:sp>
          <p:nvSpPr>
            <p:cNvPr id="80" name=""/>
            <p:cNvSpPr/>
            <p:nvPr/>
          </p:nvSpPr>
          <p:spPr>
            <a:xfrm>
              <a:off x="762120" y="838080"/>
              <a:ext cx="7848000" cy="5029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11960" y="1508040"/>
              <a:ext cx="1882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o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queremos log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0480" y="2334600"/>
              <a:ext cx="1805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La forma en 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hacemos las cos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31360" y="3178800"/>
              <a:ext cx="4619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ESTRATEGIA INSTITUC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ómo lograremos la 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(incluye objetivos para Un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y/o Gcias. Funciona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4212000"/>
              <a:ext cx="7767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CENTRALES Y DISTINTIV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tenemos que ser únicos o distintivos para alcanz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4200" y="4968360"/>
              <a:ext cx="7765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a50021"/>
                  </a:solidFill>
                  <a:latin typeface="Century Gothic"/>
                </a:rPr>
                <a:t>COMPETENCIAS TRANSVERSALES Y FUNCI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En qué debe ser buena nuestra gente para sustentar nuestr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Century Gothic"/>
                </a:rPr>
                <a:t>Competencias Centrales y lograr nuestros objetivos y vis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Relación entre </a:t>
            </a:r>
            <a:r>
              <a:rPr b="1" lang="es-ES" sz="3000" spc="-1" strike="noStrike">
                <a:solidFill>
                  <a:srgbClr val="0099cc"/>
                </a:solidFill>
                <a:latin typeface="Impact"/>
              </a:rPr>
              <a:t>Competencias</a:t>
            </a:r>
            <a:r>
              <a:rPr b="1" lang="en-US" sz="3000" spc="-1" strike="noStrike">
                <a:solidFill>
                  <a:srgbClr val="0099cc"/>
                </a:solidFill>
                <a:latin typeface="Impact"/>
              </a:rPr>
              <a:t> y Estrateg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2240" y="11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3600" y="642960"/>
            <a:ext cx="738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Modelo de Competencias y Gestión de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095640" y="2589120"/>
            <a:ext cx="5581800" cy="16938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8106000">
            <a:off x="3084120" y="2590920"/>
            <a:ext cx="5581800" cy="1738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706600">
            <a:off x="3474720" y="2500200"/>
            <a:ext cx="4878360" cy="19861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12440" y="1468440"/>
            <a:ext cx="5304960" cy="4136040"/>
            <a:chOff x="3412440" y="1468440"/>
            <a:chExt cx="5304960" cy="4136040"/>
          </a:xfrm>
        </p:grpSpPr>
        <p:sp>
          <p:nvSpPr>
            <p:cNvPr id="96" name=""/>
            <p:cNvSpPr/>
            <p:nvPr/>
          </p:nvSpPr>
          <p:spPr>
            <a:xfrm>
              <a:off x="6892200" y="4669200"/>
              <a:ext cx="1020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REMUNER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49600" y="5175720"/>
              <a:ext cx="1104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FORMACIÓ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ARROLL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7480" y="4796280"/>
              <a:ext cx="8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UCES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2440" y="3245760"/>
              <a:ext cx="935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LANES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ARR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8160" y="3258720"/>
              <a:ext cx="1299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ORGAN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Y RO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9000" y="1841040"/>
              <a:ext cx="1099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ESEMPE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3520" y="1468440"/>
              <a:ext cx="1312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SELE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CONTRAT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2200" y="1806840"/>
              <a:ext cx="10998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DISEÑO 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EVALU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PUESTO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990000"/>
                  </a:solidFill>
                  <a:latin typeface="Century Gothic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29160" y="3060720"/>
            <a:ext cx="26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MODELO       INSTITUCIONA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entury Gothic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4181400" y="16128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3911760" y="54100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7223040" y="4068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752f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614920" y="2319480"/>
            <a:ext cx="271440" cy="16344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5359320" y="4419720"/>
            <a:ext cx="271440" cy="16344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2997360" y="3429000"/>
            <a:ext cx="271440" cy="165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6654960" y="4800600"/>
            <a:ext cx="271440" cy="163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46280" y="2418840"/>
            <a:ext cx="4878360" cy="217008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4673520" y="2895480"/>
            <a:ext cx="271440" cy="1638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236196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entury Gothic"/>
              </a:rPr>
              <a:t>La potencia y efectividad del modelo se incrementan a medida que sus aplicaciones cruzan e interconectan los subsistemas de R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Regla de oro: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Es más importante una fuerte coherencia entre instrumentos sencillos que una coherencia débil entre instrumentos sofisticad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4920" y="1891800"/>
            <a:ext cx="73407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l tri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gulo virtuoso del capital hum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17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81280" y="3343320"/>
            <a:ext cx="1828800" cy="1523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9520" y="46832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Qu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4520" y="2778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9760" y="467208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entury Gothic"/>
              </a:rPr>
              <a:t>P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90720" y="1371600"/>
            <a:ext cx="304560" cy="7621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1405080"/>
            <a:ext cx="712476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a integración de Saber, Querer y Po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 un Contex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 Laboral específ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 producir un desempeño des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5867280"/>
            <a:ext cx="9158400" cy="990720"/>
            <a:chOff x="0" y="5867280"/>
            <a:chExt cx="9158400" cy="990720"/>
          </a:xfrm>
        </p:grpSpPr>
        <p:sp>
          <p:nvSpPr>
            <p:cNvPr id="131" name=""/>
            <p:cNvSpPr/>
            <p:nvPr/>
          </p:nvSpPr>
          <p:spPr>
            <a:xfrm>
              <a:off x="0" y="5867280"/>
              <a:ext cx="9158400" cy="9907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00" y="6248520"/>
              <a:ext cx="6400800" cy="441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80"/>
                  </a:solidFill>
                  <a:latin typeface="Arial"/>
                </a:rPr>
                <a:t>HACIA UNA CAPACITACIÓN BASADA EN COMPETE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04840" y="609480"/>
            <a:ext cx="795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Impact"/>
              </a:rPr>
              <a:t>oncepto de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244520"/>
            <a:ext cx="8204040" cy="127080"/>
            <a:chOff x="228600" y="1244520"/>
            <a:chExt cx="8204040" cy="127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228600" y="1244520"/>
              <a:ext cx="820404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174680" y="1244520"/>
              <a:ext cx="71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00200" y="609480"/>
            <a:ext cx="760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Impac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97" h="241">
                <a:moveTo>
                  <a:pt x="0" y="0"/>
                </a:moveTo>
                <a:lnTo>
                  <a:pt x="0" y="240"/>
                </a:lnTo>
                <a:lnTo>
                  <a:pt x="96" y="240"/>
                </a:lnTo>
              </a:path>
            </a:pathLst>
          </a:custGeom>
          <a:noFill/>
          <a:ln cap="rnd" w="25560">
            <a:solidFill>
              <a:srgbClr val="0099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8:35:50Z</dcterms:created>
  <dc:creator>Esteban Rodriguez</dc:creator>
  <dc:description/>
  <dc:language>en-US</dc:language>
  <cp:lastModifiedBy>UNIVERSIDAD DE CHILE</cp:lastModifiedBy>
  <dcterms:modified xsi:type="dcterms:W3CDTF">2004-03-09T21:08:10Z</dcterms:modified>
  <cp:revision>16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2006183</vt:r8>
  </property>
  <property fmtid="{D5CDD505-2E9C-101B-9397-08002B2CF9AE}" pid="3" name="_AuthorEmail">
    <vt:lpwstr>erodriguez@sintagma.cl</vt:lpwstr>
  </property>
  <property fmtid="{D5CDD505-2E9C-101B-9397-08002B2CF9AE}" pid="4" name="_AuthorEmailDisplayName">
    <vt:lpwstr>erodriguez@sintagma.cl</vt:lpwstr>
  </property>
  <property fmtid="{D5CDD505-2E9C-101B-9397-08002B2CF9AE}" pid="5" name="_EmailSubject">
    <vt:lpwstr>archivo ppt con material de videoconferencia del martes</vt:lpwstr>
  </property>
</Properties>
</file>